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D75E-C7E7-4F2B-8601-0EFDB71C2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B42D-CFC5-4BC8-B4FC-B8572FADA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919D-569A-4C86-8784-165689070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7E05-4F5F-4E69-8401-A03464A4A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172E-EE0F-4833-8544-919CA7E8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A30B-C09F-416F-8AB1-6877F439D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9593-2533-4B9C-88D9-4649506C2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0E5D-3B72-4A6A-ADFB-DC6AFC511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AEF1-D123-439F-9148-7212F76F3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B864-BE8D-49B9-B37F-C5666D45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13B8-9EA5-429F-B53C-5778D58F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CB65-279C-4BD6-9FA7-41BD1F0F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EAB11-D895-468A-8379-5A50E17C2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2895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 Now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-9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 can determine the point of view from which a story is to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rnie felt scared to go out so early, but Jack decided that going to the hardware store early might be helpf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43200" y="5335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I wonder who’s been leaving flowers at the door of the hardware store. I wish I could find out if they were for me or St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rnie liked the idea of figuring out who was leaving flowers, and he hoped that Jack didn’t mind getting up so early to drive him ther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733920"/>
            <a:ext cx="28954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ad the passages to the right and determine the point of view of each. Use your not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with your partners from yesterd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re-read your story ALOU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your story make sen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the point of view, mood, and the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ILL HAVE 5 MINUTES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re Pie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re Pie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RJ: Point of View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From which point of view do you think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he Treasure of Lemon Brow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is told from?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RAP!)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-Why would the author choose to write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from this point of vie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800600"/>
            <a:ext cx="8610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UES FOR TEXT EVIDENC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What pronouns do you see in the pie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Do you know the thoughts and feelings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characters or just 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silent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Setting (Tag Map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Figurative Language &amp; Vocab (Tap Word Wall!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BOOKMARKS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annotations are due by Monday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erences with Ms. Gillu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d 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omplete, turn in to “In-Class” bi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write RAP (if needed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your book or WRITE seeds if time allow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0:05:58Z</dcterms:created>
  <dc:creator>Parkway</dc:creator>
  <dc:description/>
  <dc:language>en-US</dc:language>
  <cp:lastModifiedBy>Administrator</cp:lastModifiedBy>
  <dcterms:modified xsi:type="dcterms:W3CDTF">2010-12-10T13:26:02Z</dcterms:modified>
  <cp:revision>6</cp:revision>
  <dc:subject/>
  <dc:title>Do Now  12-9    I can determine the point of view from which a story is told.</dc:title>
</cp:coreProperties>
</file>